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0BF-C66C-425A-BEE6-FF6E0833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617-6475-43CC-93B1-8E8C8353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351-D072-4C78-8C61-925B39AA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33A-451B-41E3-B898-E76FEF6D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5583-0605-4AFC-BD55-5796FF8E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B41A-52D0-4565-8018-3812F20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1A85-85EA-4930-A526-5DF2993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8058-977C-4A6A-A4E5-3395B6DD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8B0-69A6-453E-A92E-20A7AE17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BF6-9B8B-4A56-BCA9-13983B88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34C6-37FA-478B-871B-A943A9B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C0A-5126-47CB-B935-33719FAC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E283-682D-447D-9E4A-EB1C1348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F127-B7FE-4CD3-8D21-82B8A01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D492-AC05-4BA0-BFCF-119C4775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106-DB0D-400B-8E14-F99D1C85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1A4C-05BD-4E7C-8ADD-93CE2F49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D5F-17CC-40DB-8E36-47C5C3AD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DA7-2158-46F6-9E82-AD0F3F5A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915-1025-4453-8526-AB4A2B6A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9F5-622F-43D5-A9C1-EC185998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0B2-8CB5-4651-BE9E-840C416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6F0-DD75-402F-A8E6-B602699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EDB-7907-4BB9-9C32-6801F47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961-40AA-4257-BA1D-7686E6A649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AD16-2FF8-4C7E-B852-DC35E868B1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Tahoma"/>
              </a:rPr>
              <a:t>Zarys historii książki</a:t>
            </a:r>
            <a:br>
              <a:rPr sz="4000"/>
            </a:br>
            <a:r>
              <a:rPr b="0" lang="pl-PL" sz="4000" spc="-1" strike="noStrike">
                <a:solidFill>
                  <a:srgbClr val="ffffcc"/>
                </a:solidFill>
                <a:latin typeface="Tahoma"/>
              </a:rPr>
              <a:t>do  XVIIw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04980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siążka drukowan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1440r. ?  przyjmuje się jako datę wynalezienia druku przez Gutenberga.Był to metalowy przyrząd, który umożliwiał odlewanie czcionek szybciej i w większej ilości niż dotychcz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 drukarni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5616720" cy="48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ismo gotyckie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2360" y="4005360"/>
            <a:ext cx="297000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5480" y="2205000"/>
            <a:ext cx="7203960" cy="1427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567240" y="4846680"/>
            <a:ext cx="4676760" cy="114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stęp do słowa pisanego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ukarstwo wpłynęło na podniesienie się i upowszechnienie wiedzy, oświaty, rozszerzyło krąg korzystających z kultury, jak i tworzących kulturę .Pojawia się nowy typ wydawniczy gazeta .Powstają pierwsze biblioteki publicz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sięgarz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456000" cy="5040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Uliczny sprzedawca książek ( XVIIw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ahoma"/>
              </a:rPr>
              <a:t>Autor: Bogumiła Kantek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rodziny pism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1839960"/>
            <a:ext cx="3747960" cy="3994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Rysunki naskalne beduinó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eroglify (święte pismo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4560" y="1628640"/>
            <a:ext cx="6124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d hieroglifów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rzez pismo starosemickie prowadzi droga do rozwoju alfabetów greckiego i łacińskie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35600" y="3427560"/>
            <a:ext cx="208764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p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bardziej rozpowszechniony materiał piśmienny w starożytności (wyrabiany z rośliny o tej samej nazwi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29066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gam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(nazwa pochodzi od miasta Pergamon, które słynęło z jego wyrobu) specjalnym sposobem garbowane skóry koźląt, owiec lub cieląt.XV i XVIw. pergamin zostaje wyparty przez papier pochodzący z Ch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Schemat kodeksu"/>
          <p:cNvPicPr/>
          <p:nvPr/>
        </p:nvPicPr>
        <p:blipFill>
          <a:blip r:embed="rId1"/>
          <a:stretch/>
        </p:blipFill>
        <p:spPr>
          <a:xfrm>
            <a:off x="1403280" y="1916280"/>
            <a:ext cx="5688000" cy="3889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deks średniowiecz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ukarnia średniowiecz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5761080" cy="4651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Tahoma"/>
              </a:rPr>
              <a:t>Ozdobna miniatura tekstu (iluminiatura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1817640"/>
            <a:ext cx="5688000" cy="4684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2:18:48Z</dcterms:created>
  <dc:creator>student4c</dc:creator>
  <dc:description/>
  <dc:language>en-US</dc:language>
  <cp:lastModifiedBy>student4c</cp:lastModifiedBy>
  <dcterms:modified xsi:type="dcterms:W3CDTF">2002-11-08T11:25:41Z</dcterms:modified>
  <cp:revision>28</cp:revision>
  <dc:subject/>
  <dc:title>Zarys historii książki</dc:title>
</cp:coreProperties>
</file>